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782F-B04A-4811-840C-44ACBB8D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5174-8049-447D-A741-6F9ACA93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9F2A-3142-4817-9F85-F781DC1C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3839-C02E-4A34-8BAA-4E09197D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90C2-519F-4F90-88DC-6892478E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4023-82FC-4F20-9F71-B8B10561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6C6C-844E-41CB-B95E-243F4EAD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6A7D-459A-4AB6-8EA8-D34543EA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2A35-20BD-4AF4-AB8C-20B2B6E8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8C22-F853-4B0F-852B-2987201B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2F1F-124C-459B-B2BB-557ADA6E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96C-686E-4135-AC9E-1ABFCC40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0E95-401F-4999-9370-273F8C43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A7FB-142B-444D-B58A-12B175AC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CC3E-95A5-4D99-B59D-CF0C6196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F26B-9278-47B8-B220-8C9A9BBB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0C43-57E0-4BC9-91E0-1F01D32D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8F3A-E6D5-4C5F-BCA4-0547ADA4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1EA9-0759-43C8-8B58-96C2043C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DE3F-7DC5-418E-BF47-6BDA52F0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685C-23BD-405C-8CD9-A9FCE6FE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E9CC-606A-4713-9847-B6982A64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FD41-3A0E-4B9D-AC9F-6993F7BC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29A4-DD60-4C3D-8677-E9E101B6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859E-B8DA-4487-9970-2ADDCCC66F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30C7-B977-448A-8298-4FEC9ED231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odabiologia.com/saude/vitamina_a.htm" TargetMode="External"/><Relationship Id="rId3" Type="http://schemas.openxmlformats.org/officeDocument/2006/relationships/hyperlink" Target="http://www.todabiologia.com/dicionario/retina.htm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odabiologia.com/saude/vitamina_c.htm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As vitamina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s 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vitaminas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 são compostos orgânicos, presentes nos alimentos, essenciais para o funcionamento normal do metabolismo, e em caso de falta pode levar a doenças. . Atualmente é reconhecido que os seres humanos necessitam de 13 vitaminas diferentes ,sendo que o nosso corpo só consegue produzir vitamina 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25527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 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vitamina A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 combate radicais livres, atua na formação dos ossos, pele, funções da 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retina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788000" y="3645000"/>
            <a:ext cx="20667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 vitamina D regulação do cálcio do sangue e dos osso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547640" y="3429000"/>
            <a:ext cx="2076480" cy="2200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796000" y="3284640"/>
            <a:ext cx="19810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 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vitamina C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 atua no fortalecimento de sistema imunológico, combate radicais livres e aumenta a absorção do ferro pelo intestin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067280" y="3933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vitaminas, hoje, estão presentes na mídia, nas farmácias e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permercado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São vários os produtos (como bolachas, leite, cereais) que recebem, pelo fabricante,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réscimos de vitaminas sintétic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. Entretanto, na teoria evolutiva, aprendemos a depender apenas de quantidades mínimas destas substâncias; alguns cientistas sustentam que estamos, com esta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per-exposição às vitamin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destrando o nosso organismo a consumir e depender de grandes quantidad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22860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A melhor escolha para se manter   "vitaminado", portanto, é ainda o bom e velho modo: uma </a:t>
            </a: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alimentação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 nutritiva, variada e, ao contrário das pílulas, </a:t>
            </a: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saborosa!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148360" y="4724280"/>
            <a:ext cx="2114280" cy="1590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00:01:48Z</dcterms:created>
  <dc:creator>VALERIA</dc:creator>
  <dc:description/>
  <dc:language>en-US</dc:language>
  <cp:lastModifiedBy>VALERIA</cp:lastModifiedBy>
  <dcterms:modified xsi:type="dcterms:W3CDTF">2010-12-02T00:40:51Z</dcterms:modified>
  <cp:revision>2</cp:revision>
  <dc:subject/>
  <dc:title>As vitaminas</dc:title>
</cp:coreProperties>
</file>